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gif" ContentType="image/gif"/>
  <Override PartName="/ppt/media/image10.png" ContentType="image/png"/>
  <Override PartName="/ppt/media/image11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271-AC5E-491B-8D60-DA41DE19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BA2-9804-4697-88BD-AE605529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261-25DC-4D56-8D35-A4F92A22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CBF-CF4F-42B0-BEB7-932028AB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75A3-2048-46DD-92C8-8C91535D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EE70-54EB-427C-8C33-992DF1D6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A8F7-BFA5-4F4C-B56F-C77492B9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1AD1-8E40-43D6-8B44-55BF682C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FB32-5811-4AFD-8766-791876C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F17D-8168-44CF-959B-2107EAF0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7626-E167-4B4E-874D-2151FF7E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1DE-FBBA-4AD0-BFFA-149AA7C5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B558-359E-41AF-9382-23C1466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1170-60C2-492D-81A6-8A5253BB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9D54-DDA7-413C-9B90-C77FB525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8CA-BD75-4C83-9206-A403C855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9AE1-8520-4325-9DF5-13002F17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9C4D-5093-40BE-975B-7F3DFA99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E0019-4AF9-4087-B185-59C7D456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A63D-1AD5-449F-B269-D94F1B8B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EC50-23FC-4AA9-AE8A-EDB72C34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6FC2-F940-42A1-B930-C9338681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47C-C505-421C-8C6C-903A05A7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9E84B-FECB-4E72-A0E0-F330EEB1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4732-4450-462C-8007-D09528DB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5402-7A34-484C-89E4-5D838A57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999E-357E-461B-8282-3BE265D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47B5-F4E0-46E3-92F3-14D0BE6A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96CF-0407-4115-9786-86FD7A93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66F8-FA30-4467-A2E0-F79EBB12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05B9-13E6-4E35-989E-892EE66F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8C59-6E01-408E-B8FC-D6EFC899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B1A6-888A-4B18-B2C3-EF032822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09E-13D8-4F5D-B5F9-4EB5E513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0B68-3108-4FF4-A439-6EE0898C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EAA3-C783-4E8E-9111-77CD8EB8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235EF-93C1-4AE8-AD0A-DFC848E6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66D5E-DE54-4C3B-A2BA-6BE2F9BB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7C70-B725-4118-BE4D-E2DB7B6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63D9-8BE8-48C2-86B4-4EEDB47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484E-83C2-4299-B95C-60404321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EDB9-273E-4B22-94DE-95F26E1C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8415-7BD9-4D28-955C-3B82FF6E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CED4A-D2B5-4496-B187-1C8CF80D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D64-5F7C-4A01-9CA1-002E474B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B09A3-75E0-43DC-8E1A-B29E76D0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3A13-E527-472D-8315-4313FC78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792D-B3E7-452A-A8E3-15EB816F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668E-9138-4A38-A94C-98A5D290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B4374-3E8B-4010-BF8C-40B2DF4D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9A38-F317-4014-9791-F56715A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15BCA-D79F-4E28-A878-7E34A971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40CC-A990-43BB-ADC8-D60F2904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D35E-4F48-408D-8CCF-A5A8E673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9215-880D-4EDD-8E99-54552607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3C0-E529-48BE-B01A-627A59E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75203-DF38-4DEB-B12C-51BBB84B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43A-F798-403D-9330-359280D1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6CA-9915-42FB-9692-A06A65C2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34B-5707-403E-A75B-2344236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212121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12121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212121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12121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12121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12121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083F-DF1F-442C-AD1A-04B4B97DF2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C472-F98D-4519-9B9E-03B6D18898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53A2-BB4D-40D4-A1B8-1BFE33A9CC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8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139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12121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12121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142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12121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12121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D923-6D27-4115-9E0A-D322686EAE6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692A-5CA8-47D6-9158-B9EBAD1E66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24000" y="242100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99"/>
                </a:solidFill>
                <a:latin typeface="Times New Roman"/>
              </a:rPr>
              <a:t>1.2.1  </a:t>
            </a:r>
            <a:r>
              <a:rPr b="0" lang="zh-CN" sz="6600" spc="-1" strike="noStrike">
                <a:solidFill>
                  <a:srgbClr val="ff3399"/>
                </a:solidFill>
                <a:latin typeface="Times New Roman"/>
              </a:rPr>
              <a:t>有理数</a:t>
            </a:r>
            <a:endParaRPr b="0" lang="en-US" sz="6600" spc="-1" strike="noStrike">
              <a:solidFill>
                <a:srgbClr val="212121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143000" y="228600"/>
            <a:ext cx="2819520" cy="1297440"/>
            <a:chOff x="1143000" y="228600"/>
            <a:chExt cx="2819520" cy="1297440"/>
          </a:xfrm>
        </p:grpSpPr>
        <p:grpSp>
          <p:nvGrpSpPr>
            <p:cNvPr id="263" name=""/>
            <p:cNvGrpSpPr/>
            <p:nvPr/>
          </p:nvGrpSpPr>
          <p:grpSpPr>
            <a:xfrm>
              <a:off x="1143000" y="228600"/>
              <a:ext cx="2666880" cy="929880"/>
              <a:chOff x="1143000" y="228600"/>
              <a:chExt cx="2666880" cy="929880"/>
            </a:xfrm>
          </p:grpSpPr>
          <p:sp>
            <p:nvSpPr>
              <p:cNvPr id="264" name=""/>
              <p:cNvSpPr/>
              <p:nvPr/>
            </p:nvSpPr>
            <p:spPr>
              <a:xfrm>
                <a:off x="1143000" y="33048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12121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72880" y="228600"/>
                <a:ext cx="263700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12121"/>
                  </a:solidFill>
                  <a:latin typeface="Times New Roman"/>
                </a:endParaRPr>
              </a:p>
            </p:txBody>
          </p:sp>
        </p:grpSp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2209680" y="457200"/>
              <a:ext cx="628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219320" y="4572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回味        无穷       </a:t>
              </a:r>
              <a:endParaRPr b="0" lang="en-US" sz="32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 txBox="1"/>
          <p:nvPr/>
        </p:nvSpPr>
        <p:spPr>
          <a:xfrm>
            <a:off x="1332000" y="2060640"/>
            <a:ext cx="64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有理数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9" name=""/>
          <p:cNvSpPr/>
          <p:nvPr/>
        </p:nvSpPr>
        <p:spPr>
          <a:xfrm>
            <a:off x="1619280" y="3413160"/>
            <a:ext cx="68403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我的收获是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… …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华文新魏"/>
              </a:rPr>
              <a:t> </a:t>
            </a:r>
            <a:endParaRPr b="0" lang="en-US" sz="40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我感受到了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… …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华文新魏"/>
              </a:rPr>
              <a:t> </a:t>
            </a:r>
            <a:endParaRPr b="0" lang="en-US" sz="40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我的问题存在于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… …</a:t>
            </a:r>
            <a:r>
              <a:rPr b="0" lang="en-US" sz="1800" spc="-1" strike="noStrike">
                <a:solidFill>
                  <a:srgbClr val="2121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Arial"/>
              </a:rPr>
              <a:t>     </a:t>
            </a:r>
            <a:r>
              <a:rPr b="0" lang="en-US" sz="4000" spc="-1" strike="noStrike" u="sng">
                <a:solidFill>
                  <a:srgbClr val="006666"/>
                </a:solidFill>
                <a:uFillTx/>
                <a:latin typeface="Arial"/>
                <a:ea typeface="华文新魏"/>
              </a:rPr>
              <a:t>                       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华文新魏"/>
              </a:rPr>
              <a:t>  </a:t>
            </a:r>
            <a:r>
              <a:rPr b="1" lang="en-US" sz="4000" spc="-1" strike="noStrike" u="sng">
                <a:solidFill>
                  <a:srgbClr val="006666"/>
                </a:solidFill>
                <a:uFillTx/>
                <a:latin typeface="Arial"/>
                <a:ea typeface="华文新魏"/>
              </a:rPr>
              <a:t>         </a:t>
            </a:r>
            <a:endParaRPr b="0" lang="en-US" sz="40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48160" y="32464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121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84720" y="260280"/>
            <a:ext cx="2084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小结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58280" y="3789360"/>
            <a:ext cx="6635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上面出现了比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低的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我们可以用带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“－”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号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读作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: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负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)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的数来表示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如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10.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6640" y="5013360"/>
            <a:ext cx="78217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对于比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高的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可以用带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+”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读作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: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正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)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的数来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表示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如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+10,+20.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71640" y="907920"/>
            <a:ext cx="511344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12121"/>
                </a:solidFill>
                <a:latin typeface="隶书"/>
                <a:ea typeface="隶书"/>
              </a:rPr>
              <a:t>我们经常会听到天气预报</a:t>
            </a:r>
            <a:r>
              <a:rPr b="0" lang="en-US" sz="3200" spc="-1" strike="noStrike">
                <a:solidFill>
                  <a:srgbClr val="212121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2121"/>
                </a:solidFill>
                <a:latin typeface="Times New Roman"/>
              </a:rPr>
              <a:t>今天最高气温</a:t>
            </a: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12121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71a3b"/>
                </a:solidFill>
                <a:latin typeface="Times New Roman"/>
              </a:rPr>
              <a:t>北京 －</a:t>
            </a:r>
            <a:r>
              <a:rPr b="0" lang="en-US" sz="2400" spc="-1" strike="noStrike">
                <a:solidFill>
                  <a:srgbClr val="071a3b"/>
                </a:solidFill>
                <a:latin typeface="Times New Roman"/>
              </a:rPr>
              <a:t>10℃</a:t>
            </a:r>
            <a:r>
              <a:rPr b="0" lang="zh-CN" sz="2400" spc="-1" strike="noStrike">
                <a:solidFill>
                  <a:srgbClr val="071a3b"/>
                </a:solidFill>
                <a:latin typeface="Times New Roman"/>
              </a:rPr>
              <a:t>，　海口</a:t>
            </a:r>
            <a:r>
              <a:rPr b="0" lang="en-US" sz="2400" spc="-1" strike="noStrike">
                <a:solidFill>
                  <a:srgbClr val="071a3b"/>
                </a:solidFill>
                <a:latin typeface="Times New Roman"/>
              </a:rPr>
              <a:t>20℃</a:t>
            </a:r>
            <a:r>
              <a:rPr b="0" lang="zh-CN" sz="2400" spc="-1" strike="noStrike">
                <a:solidFill>
                  <a:srgbClr val="071a3b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71a3b"/>
                </a:solidFill>
                <a:latin typeface="Times New Roman"/>
              </a:rPr>
              <a:t>　　杭州 </a:t>
            </a:r>
            <a:r>
              <a:rPr b="0" lang="en-US" sz="2400" spc="-1" strike="noStrike">
                <a:solidFill>
                  <a:srgbClr val="071a3b"/>
                </a:solidFill>
                <a:latin typeface="Times New Roman"/>
              </a:rPr>
              <a:t>10℃</a:t>
            </a:r>
            <a:r>
              <a:rPr b="0" lang="zh-CN" sz="2400" spc="-1" strike="noStrike">
                <a:solidFill>
                  <a:srgbClr val="071a3b"/>
                </a:solidFill>
                <a:latin typeface="Times New Roman"/>
              </a:rPr>
              <a:t>　，　青岛 </a:t>
            </a:r>
            <a:r>
              <a:rPr b="0" lang="en-US" sz="2400" spc="-1" strike="noStrike">
                <a:solidFill>
                  <a:srgbClr val="071a3b"/>
                </a:solidFill>
                <a:latin typeface="Times New Roman"/>
              </a:rPr>
              <a:t>0℃</a:t>
            </a: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3505320"/>
            <a:ext cx="4114800" cy="3138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163600" y="863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议一议</a:t>
            </a:r>
            <a:endParaRPr b="0" lang="en-US" sz="4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76000" y="242100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生活中你见过带有“－”的数吗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?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61048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236" name=""/>
          <p:cNvSpPr/>
          <p:nvPr/>
        </p:nvSpPr>
        <p:spPr>
          <a:xfrm>
            <a:off x="2124000" y="4869000"/>
            <a:ext cx="4392720" cy="1584360"/>
          </a:xfrm>
          <a:prstGeom prst="wedgeRoundRectCallout">
            <a:avLst>
              <a:gd name="adj1" fmla="val -36810"/>
              <a:gd name="adj2" fmla="val -77152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常常用正数和负数表示一些具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义的量．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63960" y="295200"/>
            <a:ext cx="6380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例１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(1)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在知识竞赛中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,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如果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+10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分表示加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10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分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,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那么扣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20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分怎样表示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?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(2)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某人转动转盘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,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如果用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+5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表示沿逆时针方向转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了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5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圈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,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那么沿顺时针方向转了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12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圈怎样表示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?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(3)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在某次乒乓球质量检测中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,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一只乒乓球超出标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准质量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0.02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克记作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+0.02,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那么－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0.03</a:t>
            </a: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克表示什么</a:t>
            </a:r>
            <a:r>
              <a:rPr b="0" lang="en-US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?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09320" y="3114720"/>
            <a:ext cx="3632760" cy="939600"/>
            <a:chOff x="409320" y="3114720"/>
            <a:chExt cx="3632760" cy="939600"/>
          </a:xfrm>
        </p:grpSpPr>
        <p:sp>
          <p:nvSpPr>
            <p:cNvPr id="239" name=""/>
            <p:cNvSpPr/>
            <p:nvPr/>
          </p:nvSpPr>
          <p:spPr>
            <a:xfrm>
              <a:off x="409320" y="311472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解 </a:t>
              </a:r>
              <a:r>
                <a:rPr b="0" lang="en-US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: </a:t>
              </a:r>
              <a:endParaRPr b="0" lang="en-US" sz="28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0240" y="3533760"/>
              <a:ext cx="320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(1)</a:t>
              </a:r>
              <a:r>
                <a:rPr b="0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扣</a:t>
              </a:r>
              <a:r>
                <a:rPr b="0" lang="en-US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20</a:t>
              </a:r>
              <a:r>
                <a:rPr b="0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分记作－</a:t>
              </a:r>
              <a:r>
                <a:rPr b="0" lang="en-US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20</a:t>
              </a:r>
              <a:r>
                <a:rPr b="0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分</a:t>
              </a:r>
              <a:r>
                <a:rPr b="0" lang="en-US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;</a:t>
              </a:r>
              <a:endParaRPr b="0" lang="en-US" sz="2800" spc="-1" strike="noStrike">
                <a:solidFill>
                  <a:srgbClr val="212121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305360" y="4281480"/>
            <a:ext cx="44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(2)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沿顺时针方向转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12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圈记作－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12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圈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;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61760" y="50436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(3)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－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0.03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克表示乒乓球的质量低于标准质量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0.03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克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04920" y="0"/>
            <a:ext cx="1523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试一试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09480"/>
            <a:ext cx="8839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填空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规定盈利为正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某公司去年亏损了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2.5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万元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记作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万元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今年盈利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3.2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万元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记作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万元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规定海平面以上的海拔高度为正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新疆乌鲁木齐市高于海平面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918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米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记作海拔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___________;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乌鲁木齐盘地最低点低于海平面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155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米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212121"/>
                </a:solidFill>
                <a:latin typeface="Times New Roman"/>
              </a:rPr>
              <a:t>记作海拔</a:t>
            </a:r>
            <a:r>
              <a:rPr b="1" lang="en-US" sz="3200" spc="-1" strike="noStrike">
                <a:solidFill>
                  <a:srgbClr val="212121"/>
                </a:solidFill>
                <a:latin typeface="Times New Roman"/>
              </a:rPr>
              <a:t>________________.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828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2.5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1905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3.2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3124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1814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15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51055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正整数、零、和负整数统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整数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integer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）；正分数、负分数统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数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fraction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964160" y="309600"/>
            <a:ext cx="51123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整数与分数统称为有理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(rational number)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27760" y="1120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12121"/>
                </a:solidFill>
                <a:latin typeface="Times New Roman"/>
                <a:ea typeface="隶书"/>
              </a:rPr>
              <a:t>请同学们试一试将学过的数进行分类．</a:t>
            </a:r>
            <a:endParaRPr b="0" lang="en-US" sz="2800" spc="-1" strike="noStrike">
              <a:solidFill>
                <a:srgbClr val="212121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914400" y="2146320"/>
            <a:ext cx="7331040" cy="3111480"/>
          </a:xfrm>
          <a:prstGeom prst="rect">
            <a:avLst/>
          </a:prstGeom>
          <a:ln w="5724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50920" y="522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同学们，你能既快又准地填入括号吗？</a:t>
            </a:r>
            <a:endParaRPr b="0" lang="en-US" sz="3600" spc="-1" strike="noStrike">
              <a:solidFill>
                <a:srgbClr val="212121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7365960" cy="44355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med">
    <p:comb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692360" y="836640"/>
            <a:ext cx="1523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想一想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98900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2121"/>
                </a:solidFill>
                <a:latin typeface="Times New Roman"/>
              </a:rPr>
              <a:t>零是整数吗</a:t>
            </a:r>
            <a:r>
              <a:rPr b="1" lang="en-US" sz="4000" spc="-1" strike="noStrike">
                <a:solidFill>
                  <a:srgbClr val="212121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212121"/>
                </a:solidFill>
                <a:latin typeface="Times New Roman"/>
              </a:rPr>
              <a:t>自然数一定是整数吗</a:t>
            </a:r>
            <a:r>
              <a:rPr b="1" lang="en-US" sz="4000" spc="-1" strike="noStrike">
                <a:solidFill>
                  <a:srgbClr val="212121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212121"/>
                </a:solidFill>
                <a:latin typeface="Times New Roman"/>
              </a:rPr>
              <a:t>一定是正整数吗</a:t>
            </a:r>
            <a:r>
              <a:rPr b="1" lang="en-US" sz="4000" spc="-1" strike="noStrike">
                <a:solidFill>
                  <a:srgbClr val="212121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212121"/>
                </a:solidFill>
                <a:latin typeface="Times New Roman"/>
              </a:rPr>
              <a:t>整数一定是自然数吗</a:t>
            </a:r>
            <a:r>
              <a:rPr b="1" lang="en-US" sz="4000" spc="-1" strike="noStrike">
                <a:solidFill>
                  <a:srgbClr val="212121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212121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212920" cy="2361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708360" y="836640"/>
            <a:ext cx="7621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05:03:35Z</dcterms:created>
  <dc:creator>为您服务教育网http://www.wsbedu.com/</dc:creator>
  <dc:description/>
  <cp:keywords/>
  <dc:language>en-US</dc:language>
  <cp:lastModifiedBy>微软用户</cp:lastModifiedBy>
  <dcterms:modified xsi:type="dcterms:W3CDTF">2014-06-30T00:52:32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